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CEE-9710-4799-9D85-485FEB67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AD0-46A3-47F7-A0C2-DB1A2C8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7BE-0DE4-43E4-9884-62C8CCFC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C46-122C-4DCA-AF3E-34083F75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6AAC-5A5D-40EF-9310-94277558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ED73-F4B7-452C-AEE3-4CAC956F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443D-8A24-446B-8CB1-CDDBB6FC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E4C3-ACC6-490B-A19C-6B0C9BE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3BA-FBA4-44EE-8207-EB506E4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1AFB-7A86-4EDD-BBC1-406CA8B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183-E28E-4940-9082-5DCDFE9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67C-1A9D-4DEF-A1FB-0965E4FF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917-14D7-4372-85AF-A5C9C1AE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E951-4CEF-4315-8E71-2EEE1B2B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C76-D68C-4DF5-8A29-ACE3526E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7F3-569C-49F5-8FFA-1C4B2857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0E72-BDC3-41B7-90CE-BD919A9C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069-2F16-487B-B452-14B9971B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E8F-4473-4705-A636-4EF2BED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A77-D7D0-4A45-81BE-18BFB14B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EA6-0153-47D2-A450-47AA368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7F0-73AD-40DA-99E4-2DB894B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01E-8D3C-4A2F-829E-4D5841F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1D9-26FD-4AD2-B5C2-5F0E01A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6AA6-AB37-4BC4-8A52-6909E3F0B3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A38-607C-454F-B05E-E85F1DA964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gradFill rotWithShape="0">
            <a:gsLst>
              <a:gs pos="0">
                <a:srgbClr val="0fffbc">
                  <a:alpha val="75294"/>
                </a:srgbClr>
              </a:gs>
              <a:gs pos="50000">
                <a:srgbClr val="078663">
                  <a:alpha val="75294"/>
                </a:srgbClr>
              </a:gs>
              <a:gs pos="100000">
                <a:srgbClr val="0fffbc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6858000" y="5334120"/>
            <a:ext cx="2209680" cy="685800"/>
          </a:xfrm>
          <a:custGeom>
            <a:avLst/>
            <a:gdLst>
              <a:gd name="textAreaLeft" fmla="*/ 79200 w 2209680"/>
              <a:gd name="textAreaRight" fmla="*/ 2130480 w 220968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7071" y="2500"/>
                </a:lnTo>
                <a:lnTo>
                  <a:pt x="2500" y="25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7071" y="19100"/>
                </a:lnTo>
                <a:lnTo>
                  <a:pt x="67071" y="25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7071" y="191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0" y="1600200"/>
            <a:ext cx="1017360" cy="609480"/>
          </a:xfrm>
          <a:custGeom>
            <a:avLst/>
            <a:gdLst>
              <a:gd name="textAreaLeft" fmla="*/ 61920 w 1017360"/>
              <a:gd name="textAreaRight" fmla="*/ 955440 w 10173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36047" h="21600">
                <a:moveTo>
                  <a:pt x="0" y="0"/>
                </a:moveTo>
                <a:lnTo>
                  <a:pt x="36047" y="0"/>
                </a:lnTo>
                <a:lnTo>
                  <a:pt x="36047" y="21600"/>
                </a:lnTo>
                <a:lnTo>
                  <a:pt x="0" y="21600"/>
                </a:lnTo>
                <a:close/>
              </a:path>
              <a:path fill="lightenLess" w="36047" h="21600">
                <a:moveTo>
                  <a:pt x="0" y="0"/>
                </a:moveTo>
                <a:lnTo>
                  <a:pt x="36047" y="0"/>
                </a:lnTo>
                <a:lnTo>
                  <a:pt x="33853" y="2194"/>
                </a:lnTo>
                <a:lnTo>
                  <a:pt x="2194" y="2194"/>
                </a:lnTo>
                <a:close/>
              </a:path>
              <a:path fill="darken" w="36047" h="21600">
                <a:moveTo>
                  <a:pt x="36047" y="0"/>
                </a:moveTo>
                <a:lnTo>
                  <a:pt x="36047" y="21600"/>
                </a:lnTo>
                <a:lnTo>
                  <a:pt x="33853" y="19406"/>
                </a:lnTo>
                <a:lnTo>
                  <a:pt x="33853" y="2194"/>
                </a:lnTo>
                <a:close/>
              </a:path>
              <a:path fill="darkenLess" w="36047" h="21600">
                <a:moveTo>
                  <a:pt x="36047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3853" y="19406"/>
                </a:lnTo>
                <a:close/>
              </a:path>
              <a:path fill="lighten" w="36047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1066680"/>
            <a:ext cx="1652760" cy="685800"/>
          </a:xfrm>
          <a:custGeom>
            <a:avLst/>
            <a:gdLst>
              <a:gd name="textAreaLeft" fmla="*/ 68040 w 1652760"/>
              <a:gd name="textAreaRight" fmla="*/ 1584720 w 165276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52039" h="21600">
                <a:moveTo>
                  <a:pt x="0" y="0"/>
                </a:moveTo>
                <a:lnTo>
                  <a:pt x="52039" y="0"/>
                </a:lnTo>
                <a:lnTo>
                  <a:pt x="52039" y="21600"/>
                </a:lnTo>
                <a:lnTo>
                  <a:pt x="0" y="21600"/>
                </a:lnTo>
                <a:close/>
              </a:path>
              <a:path fill="lightenLess" w="52039" h="21600">
                <a:moveTo>
                  <a:pt x="0" y="0"/>
                </a:moveTo>
                <a:lnTo>
                  <a:pt x="52039" y="0"/>
                </a:lnTo>
                <a:lnTo>
                  <a:pt x="49890" y="2150"/>
                </a:lnTo>
                <a:lnTo>
                  <a:pt x="2150" y="2150"/>
                </a:lnTo>
                <a:close/>
              </a:path>
              <a:path fill="darken" w="52039" h="21600">
                <a:moveTo>
                  <a:pt x="52039" y="0"/>
                </a:moveTo>
                <a:lnTo>
                  <a:pt x="52039" y="21600"/>
                </a:lnTo>
                <a:lnTo>
                  <a:pt x="49890" y="19450"/>
                </a:lnTo>
                <a:lnTo>
                  <a:pt x="49890" y="2150"/>
                </a:lnTo>
                <a:close/>
              </a:path>
              <a:path fill="darkenLess" w="52039" h="21600">
                <a:moveTo>
                  <a:pt x="52039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9890" y="19450"/>
                </a:lnTo>
                <a:close/>
              </a:path>
              <a:path fill="lighten" w="52039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2cbf0f">
                  <a:alpha val="75294"/>
                </a:srgbClr>
              </a:gs>
              <a:gs pos="50000">
                <a:srgbClr val="145806">
                  <a:alpha val="75294"/>
                </a:srgbClr>
              </a:gs>
              <a:gs pos="100000">
                <a:srgbClr val="2cbf0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ol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276720"/>
            <a:ext cx="2438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7162920" y="1066680"/>
            <a:ext cx="1981080" cy="609840"/>
          </a:xfrm>
          <a:custGeom>
            <a:avLst/>
            <a:gdLst>
              <a:gd name="textAreaLeft" fmla="*/ 36360 w 1981080"/>
              <a:gd name="textAreaRight" fmla="*/ 1944720 w 1981080"/>
              <a:gd name="textAreaTop" fmla="*/ 36360 h 609840"/>
              <a:gd name="textAreaBottom" fmla="*/ 57348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846" y="1294"/>
                </a:lnTo>
                <a:lnTo>
                  <a:pt x="1294" y="1294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846" y="20306"/>
                </a:lnTo>
                <a:lnTo>
                  <a:pt x="68846" y="1294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294" y="20306"/>
                </a:lnTo>
                <a:lnTo>
                  <a:pt x="68846" y="20306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294" y="1294"/>
                </a:lnTo>
                <a:lnTo>
                  <a:pt x="1294" y="203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7238880" y="990720"/>
            <a:ext cx="1752840" cy="533160"/>
          </a:xfrm>
          <a:custGeom>
            <a:avLst/>
            <a:gdLst>
              <a:gd name="textAreaLeft" fmla="*/ 52920 w 1752840"/>
              <a:gd name="textAreaRight" fmla="*/ 1699920 w 1752840"/>
              <a:gd name="textAreaTop" fmla="*/ 52920 h 533160"/>
              <a:gd name="textAreaBottom" fmla="*/ 480240 h 533160"/>
            </a:gdLst>
            <a:ahLst/>
            <a:rect l="textAreaLeft" t="textAreaTop" r="textAreaRight" b="textAreaBottom"/>
            <a:pathLst>
              <a:path w="70980" h="21600">
                <a:moveTo>
                  <a:pt x="0" y="0"/>
                </a:moveTo>
                <a:lnTo>
                  <a:pt x="70980" y="0"/>
                </a:lnTo>
                <a:lnTo>
                  <a:pt x="70980" y="21600"/>
                </a:lnTo>
                <a:lnTo>
                  <a:pt x="0" y="21600"/>
                </a:lnTo>
                <a:close/>
              </a:path>
              <a:path fill="lightenLess" w="70980" h="21600">
                <a:moveTo>
                  <a:pt x="0" y="0"/>
                </a:moveTo>
                <a:lnTo>
                  <a:pt x="70980" y="0"/>
                </a:lnTo>
                <a:lnTo>
                  <a:pt x="68830" y="2150"/>
                </a:lnTo>
                <a:lnTo>
                  <a:pt x="2150" y="2150"/>
                </a:lnTo>
                <a:close/>
              </a:path>
              <a:path fill="darken" w="70980" h="21600">
                <a:moveTo>
                  <a:pt x="70980" y="0"/>
                </a:moveTo>
                <a:lnTo>
                  <a:pt x="70980" y="21600"/>
                </a:lnTo>
                <a:lnTo>
                  <a:pt x="68830" y="19450"/>
                </a:lnTo>
                <a:lnTo>
                  <a:pt x="68830" y="2150"/>
                </a:lnTo>
                <a:close/>
              </a:path>
              <a:path fill="darkenLess" w="70980" h="21600">
                <a:moveTo>
                  <a:pt x="7098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8830" y="19450"/>
                </a:lnTo>
                <a:close/>
              </a:path>
              <a:path fill="lighten" w="7098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0" y="1600200"/>
            <a:ext cx="1017360" cy="762120"/>
          </a:xfrm>
          <a:custGeom>
            <a:avLst/>
            <a:gdLst>
              <a:gd name="textAreaLeft" fmla="*/ 72720 w 1017360"/>
              <a:gd name="textAreaRight" fmla="*/ 944640 w 101736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31" h="21600">
                <a:moveTo>
                  <a:pt x="0" y="0"/>
                </a:moveTo>
                <a:lnTo>
                  <a:pt x="28831" y="0"/>
                </a:lnTo>
                <a:lnTo>
                  <a:pt x="28831" y="21600"/>
                </a:lnTo>
                <a:lnTo>
                  <a:pt x="0" y="21600"/>
                </a:lnTo>
                <a:close/>
              </a:path>
              <a:path fill="lightenLess" w="28831" h="21600">
                <a:moveTo>
                  <a:pt x="0" y="0"/>
                </a:moveTo>
                <a:lnTo>
                  <a:pt x="28831" y="0"/>
                </a:lnTo>
                <a:lnTo>
                  <a:pt x="26761" y="2070"/>
                </a:lnTo>
                <a:lnTo>
                  <a:pt x="2070" y="2070"/>
                </a:lnTo>
                <a:close/>
              </a:path>
              <a:path fill="darken" w="28831" h="21600">
                <a:moveTo>
                  <a:pt x="28831" y="0"/>
                </a:moveTo>
                <a:lnTo>
                  <a:pt x="28831" y="21600"/>
                </a:lnTo>
                <a:lnTo>
                  <a:pt x="26761" y="19530"/>
                </a:lnTo>
                <a:lnTo>
                  <a:pt x="26761" y="2070"/>
                </a:lnTo>
                <a:close/>
              </a:path>
              <a:path fill="darkenLess" w="28831" h="21600">
                <a:moveTo>
                  <a:pt x="2883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61" y="19530"/>
                </a:lnTo>
                <a:close/>
              </a:path>
              <a:path fill="lighten" w="2883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990720"/>
            <a:ext cx="1523880" cy="685800"/>
          </a:xfrm>
          <a:custGeom>
            <a:avLst/>
            <a:gdLst>
              <a:gd name="textAreaLeft" fmla="*/ 60120 w 1523880"/>
              <a:gd name="textAreaRight" fmla="*/ 1463760 w 1523880"/>
              <a:gd name="textAreaTop" fmla="*/ 60120 h 685800"/>
              <a:gd name="textAreaBottom" fmla="*/ 62568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082" y="1900"/>
                </a:lnTo>
                <a:lnTo>
                  <a:pt x="1900" y="19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082" y="19700"/>
                </a:lnTo>
                <a:lnTo>
                  <a:pt x="46082" y="19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900" y="19700"/>
                </a:lnTo>
                <a:lnTo>
                  <a:pt x="46082" y="197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900" y="1900"/>
                </a:lnTo>
                <a:lnTo>
                  <a:pt x="1900" y="19700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2:36Z</dcterms:created>
  <dc:creator>Northmont City Schools</dc:creator>
  <dc:description/>
  <dc:language>en-US</dc:language>
  <cp:lastModifiedBy>Northmont City Schools</cp:lastModifiedBy>
  <dcterms:modified xsi:type="dcterms:W3CDTF">2010-03-26T16:33:48Z</dcterms:modified>
  <cp:revision>15</cp:revision>
  <dc:subject/>
  <dc:title>Algebra Equations</dc:title>
</cp:coreProperties>
</file>